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9925050" cy="6796088"/>
  <p:custShowLst>
    <p:custShow name="定期テスト対策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1857-6026-410D-A13F-00DEC754AA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スライド番号プレースホルダー 1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BBD1-98BF-4159-9D6F-BDC927CE07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AD2-87A1-4B1F-9B36-6ACBEACA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94B-A5D7-4E66-9803-273943F2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510-4480-4288-AF35-DAB18D48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8C4-8797-494C-B01D-DA5583AC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4A89-1D1D-41A2-B5E0-296D1C71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1879-3749-47CF-A3F8-4B41FE5E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C2EA-74E6-4E2F-85F7-7EA37ABF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B78B-22DE-45AA-925E-C1B19724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8FEC-8D91-4200-8E01-E05A24C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355-70E7-4B07-A08E-24E75096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17A5-681B-4078-BFF3-17F1E55B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1CC-FB37-4AB1-8E12-FDD8F66F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00C-4D82-49A1-B40B-475E0FF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10BA-6B05-4330-8366-BC45774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797B-FF23-4813-97B7-05A9BAE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DC1F-9993-438D-AB61-E90B81F9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3EE9-BDB7-4772-BFE0-F447C50C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0234-1A34-4E88-8082-B7A73147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C53C-3D5B-4E02-AC0E-DC4C5075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1A32C-B53F-4046-A7AD-693DED2A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83AF-9FED-476B-8703-D5B85C82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F75E-2CD1-491E-8439-7D597AA2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1B8-A7D9-4ACF-BF0A-362C3DB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46DF-2469-4F52-91EA-D0A22A1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7051-6C0D-49A6-9B22-28487B7F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9AAF-28FE-413F-8C8A-F8BF40A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66E2-5985-454E-BC31-61A2E0B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4681-B9C3-4EA4-9982-84657A43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19E7-C058-4B62-86B6-62546A07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24F3-B59D-4C17-9147-3A2E72A2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234F-A27E-4660-B9CD-DEC2A6B2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9CC09-C692-403F-AB0A-E168EEA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1E78-7F32-4E7D-8EFC-591755A4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FC-B7ED-4373-AE0A-57A0DB19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E295-1835-4420-BA08-2AE9E32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40C9-5406-41A4-A5F2-2D353549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D57E-8114-46E6-916C-C19FF7F3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ADD2-37EA-4616-BBB4-A83CB48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8EFB-3817-40AD-B01D-66B5C2E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4613-91F6-407B-AFBD-6230B3C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28B7-0E45-4756-939B-4E416CC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CCD0-2AB3-43BE-9A89-11A0D33A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2141-07A1-40DB-8EE8-C6ADD7E4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ABD-ACED-4815-A1F9-142C5D8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0C9-5225-479E-B1EA-DC072077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469-E1E6-48B3-8C92-01C3077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54E-A490-4741-B81D-4975297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E97-5FF1-41B0-815A-CB77769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9748-0F4B-4241-AB3A-CCFAD2F623A4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4CF-512E-4484-BED8-25DFC08ACC1C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969C-C1D0-41AB-A993-86CF1FED7D72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0CC2-5B0F-4E2A-B4F7-707EBC141D0C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05C-C6CE-4BC7-8113-42EF0B23746B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72360" y="6393960"/>
            <a:ext cx="72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703-1DA5-4995-83A6-105C2D0CFA9D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9921-4E9A-483B-B7CD-BF7E1F98BDA7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2ED6-D162-4E99-B39A-3F8F8F4E7A4E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mitutor.com/" TargetMode="External"/><Relationship Id="rId2" Type="http://schemas.openxmlformats.org/officeDocument/2006/relationships/hyperlink" Target="http://www.assist-settsu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971640" y="3832200"/>
            <a:ext cx="6899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お知らせとご案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81" name="スライド番号プレースホルダー 3"/>
          <p:cNvSpPr/>
          <p:nvPr/>
        </p:nvSpPr>
        <p:spPr>
          <a:xfrm>
            <a:off x="8346960" y="6237360"/>
            <a:ext cx="52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B2C7-ED80-4AA1-A45D-FE2D01AB9651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6DC-218B-4ADD-82D3-3432437EFCB7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4"/>
          <p:cNvSpPr/>
          <p:nvPr/>
        </p:nvSpPr>
        <p:spPr>
          <a:xfrm>
            <a:off x="1187280" y="907920"/>
            <a:ext cx="64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RM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英語リリー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各教科書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１～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文法（難易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パターン系多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表現（難易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教科書表現をふくむもの多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実戦文法、実戦問題（難易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夏期講習チラシ、校門前配布用チラシ、のぼり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オンデマンド受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成承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mamituto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http://www.assist-settsu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S A</cp:lastModifiedBy>
  <cp:lastPrinted>2016-09-05T21:28:50Z</cp:lastPrinted>
  <dcterms:modified xsi:type="dcterms:W3CDTF">2017-05-24T00:46:06Z</dcterms:modified>
  <cp:revision>705</cp:revision>
  <dc:subject/>
  <dc:title>第１回　Assist勉強会</dc:title>
</cp:coreProperties>
</file>