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670675" cy="9925050"/>
  <p:custShowLst>
    <p:custShow name="定期テスト対策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3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move the slide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4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5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D9E7-1345-43D4-AC18-D59511B9353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スライド番号プレースホルダー 1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495C5-85C0-4377-8954-64201383388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スライド番号プレースホルダー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A2DB-13EB-45A0-8D77-E793A192A2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スライド番号プレースホルダ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723A-E2F7-494C-AA2D-F33B2AE9A0D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スライド番号プレースホルダ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0FB-5AB0-4189-9AE2-36D10EA211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スライド番号プレースホルダ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23012-9299-4EA8-83F3-54CBB201199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スライド番号プレースホルダ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639-27B6-4CED-AD75-C99F94D6ADF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9AAD-E2D2-4E0D-A07E-A9CC8660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A6AE-C3E4-4802-9350-16EC7C008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AF9F-FE2A-49A3-879E-5D389F54D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5FF9-E610-46C9-AF7F-31FCC4826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F004-3622-43F3-A9D3-DE6C3950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CABA-9749-47F8-A5A8-DC24E52A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AF5A-26B7-45B4-B5E0-E01BB9E59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225D-F253-4CDC-AD53-2B193529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D3BF3-827A-4F7B-920D-093116CB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C3D04-5DF6-4AA8-B6B7-E05576F82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D9848-761F-4F54-891D-F80FCC78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8A1-4482-44C8-8146-C01D047CF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7F95C-1C4B-4B12-B65F-1B162B7B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5342-7488-43DA-B168-D57B207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2BA6-F806-4046-8BD6-93FECF57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CEE8-6A9D-4246-8A78-CDFF823F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D990C-D697-45CE-A1EA-4B96C5B3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5DF4D-5390-4F62-A7F4-2CFD2B0B2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4241A-6608-43C7-9700-206DEFCA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C4FA6-E768-421B-BDA2-B1B5A4DC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1919D-6318-43B6-9524-1956BB648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28F6-7C1A-445E-98F0-A65BF2D5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79CE-4171-430D-BC77-7E17525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0997-A249-4886-A7B3-657019729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1C6AA-3EEC-464B-812C-2B1094DD1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4846-C2FE-4D2C-986C-8A548966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A2C5F-49DD-4588-B5AF-45BBF9A3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7B22-4393-4A42-9BDC-A1035093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08A47-0893-445A-804C-05C8BA311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DDA6E-383E-42F8-B9A4-A31E85316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75F83-C0BD-4083-9D23-7EB94FA3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2188C-1E9E-44AC-9191-21C3C2D0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35147-C86C-4F30-80E2-88E352840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D201-ADF0-4744-93EC-4CF230F0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01970-AB70-4E7A-B82E-33522A99F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FC308-0443-46EF-B4C5-262E3F0E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289D7-A4DD-4C72-83A9-11EC92172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6ABDE-5915-4A68-80E8-2ECAC953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ACA4A-95E5-4461-A653-26AFA5C4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0302-9562-458E-B485-E8EA8273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83988-6D8C-400C-97C6-20E9DE37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A9B6F-6200-4920-A85E-B95E77E26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E3534-42FC-4342-9133-C8B692ACF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EA03-AA98-4870-B7AB-86C1B2338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B041-0AEA-49FD-804C-C474207A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4A58-55CF-4A4B-B555-CC0D51D7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5D17-1AF8-4CAD-A5C5-2B78C665C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0955-B56E-4DAD-8187-723E809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11A8-8A8E-4D67-939D-7F8C9A93FE05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D915-F230-41A4-BE51-C12DD1B06271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CE7F-47C3-4B28-8F5A-95E005FE4BF8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6DE4-8478-430A-9947-5F2D69AB9308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512C-E7B8-4B9F-AABE-7D89D6D87678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72360" y="6393960"/>
            <a:ext cx="720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d1282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00D2-588E-42D4-9C6A-5FE01BDA93BD}" type="slidenum">
              <a:rPr b="1" lang="ja-JP" sz="2400" spc="-1" strike="noStrike">
                <a:solidFill>
                  <a:srgbClr val="d1282e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D524-D2C5-4335-8A0F-920C54A0AF9A}" type="datetime"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FB0C-8C0B-4C25-934C-56647D2E6CE5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76360" y="2722320"/>
            <a:ext cx="6588000" cy="129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第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0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回　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SIST</a:t>
            </a:r>
            <a:r>
              <a:rPr b="0" lang="ja-JP" sz="4400" spc="-1" strike="noStrike">
                <a:solidFill>
                  <a:srgbClr val="000000"/>
                </a:solidFill>
                <a:latin typeface="Arial Black"/>
              </a:rPr>
              <a:t>勉強会</a:t>
            </a:r>
            <a:endParaRPr b="0" lang="en-US" sz="44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2195280" y="4122720"/>
            <a:ext cx="61801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d1282e"/>
                </a:solidFill>
                <a:latin typeface="Arial Black"/>
              </a:rPr>
              <a:t>テーマ　数学の指導につい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C:\Users\arisawa\Desktop\Resized\アシスト／欧文ロゴ.jpg"/>
          <p:cNvPicPr/>
          <p:nvPr/>
        </p:nvPicPr>
        <p:blipFill>
          <a:blip r:embed="rId1"/>
          <a:stretch/>
        </p:blipFill>
        <p:spPr>
          <a:xfrm>
            <a:off x="755640" y="674640"/>
            <a:ext cx="7620120" cy="2048040"/>
          </a:xfrm>
          <a:prstGeom prst="rect">
            <a:avLst/>
          </a:prstGeom>
          <a:ln w="0">
            <a:noFill/>
          </a:ln>
        </p:spPr>
      </p:pic>
      <p:sp>
        <p:nvSpPr>
          <p:cNvPr id="182" name="スライド番号プレースホルダー 3"/>
          <p:cNvSpPr/>
          <p:nvPr/>
        </p:nvSpPr>
        <p:spPr>
          <a:xfrm>
            <a:off x="8346960" y="6237360"/>
            <a:ext cx="5209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D0E-97C6-49D7-A726-BCB843F0F535}" type="slidenum">
              <a:rPr b="1" lang="ja-JP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正方形/長方形 4"/>
          <p:cNvSpPr/>
          <p:nvPr/>
        </p:nvSpPr>
        <p:spPr>
          <a:xfrm>
            <a:off x="755640" y="620640"/>
            <a:ext cx="720108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１．生徒面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２．数学の指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メイリオ"/>
                <a:ea typeface="メイリオ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メイリオ"/>
                <a:ea typeface="メイリオ"/>
              </a:rPr>
              <a:t>３．講師教育</a:t>
            </a:r>
            <a:r>
              <a:rPr b="0" lang="en-US" sz="3200" spc="-1" strike="noStrike">
                <a:solidFill>
                  <a:srgbClr val="000000"/>
                </a:solidFill>
                <a:latin typeface="メイリオ"/>
                <a:ea typeface="メイリオ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スライド番号プレースホルダー 1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C062-1CE9-47B6-956B-3F0986AAF52D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B5451-57D2-4CE7-98A7-FC9104C188C7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テキスト ボックス 4"/>
          <p:cNvSpPr/>
          <p:nvPr/>
        </p:nvSpPr>
        <p:spPr>
          <a:xfrm>
            <a:off x="611280" y="40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生徒面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正方形/長方形 5"/>
          <p:cNvSpPr/>
          <p:nvPr/>
        </p:nvSpPr>
        <p:spPr>
          <a:xfrm>
            <a:off x="1042920" y="1197000"/>
            <a:ext cx="5545080" cy="34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信頼関係構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モチベーションア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・不満の抽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・褒め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・悪い部分、改善点を生徒に考えさせ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・期待を伝え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●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目標設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・目の前の楽を優先してしまう（子供の状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　　　　　　　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　　長期の計画を立てられるように（大人へ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3780000" y="692280"/>
          <a:ext cx="5181480" cy="3809880"/>
        </p:xfrm>
        <a:graphic>
          <a:graphicData uri="http://schemas.openxmlformats.org/drawingml/2006/table">
            <a:tbl>
              <a:tblPr/>
              <a:tblGrid>
                <a:gridCol w="798480"/>
                <a:gridCol w="247680"/>
                <a:gridCol w="253800"/>
                <a:gridCol w="485640"/>
                <a:gridCol w="675000"/>
                <a:gridCol w="676080"/>
                <a:gridCol w="674640"/>
                <a:gridCol w="685800"/>
                <a:gridCol w="684360"/>
              </a:tblGrid>
              <a:tr h="23796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年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1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期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学期中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使用教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①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中村　麻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2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②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山賀　将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く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③</a:t>
                      </a: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ＭＳ ゴシック"/>
                          <a:ea typeface="黑体"/>
                        </a:rPr>
                        <a:t>荒木萌乃叶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4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新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④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久本　大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⑤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曽宮　彩乃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⑥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小林　日和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新入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⑦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浦井　健太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く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5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Genes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⑧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東　歌奈子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⑨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嘉数　真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く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⑩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角田　璃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⑪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森田　悠生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⑫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盛田　真琴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南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⑬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中川　和泉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⑭</a:t>
                      </a: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伊藤　瑠南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6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さん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ゴシック"/>
                        </a:rPr>
                        <a:t>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　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游ゴシック"/>
                        </a:rPr>
                        <a:t>Winpas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7DF-2344-4096-8DF9-93A66ADE04C1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テキスト ボックス 4"/>
          <p:cNvSpPr/>
          <p:nvPr/>
        </p:nvSpPr>
        <p:spPr>
          <a:xfrm>
            <a:off x="395280" y="40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数学の指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正方形/長方形 5"/>
          <p:cNvSpPr/>
          <p:nvPr/>
        </p:nvSpPr>
        <p:spPr>
          <a:xfrm>
            <a:off x="468360" y="1197000"/>
            <a:ext cx="3024000" cy="34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成績上位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p.msz-web.com/2017/04/11/2-14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p.msz-web.com/2017/04/13/2-17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://wp.msz-web.com/2017/04/25/2-19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成績中・下位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メイリオ"/>
                <a:ea typeface="メイリオ"/>
              </a:rPr>
              <a:t>https://1drv.ms/f/s!Avc0hlYy50qqjt1PGi5Kv5RmjQijU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定期テスト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正方形/長方形 6"/>
          <p:cNvSpPr/>
          <p:nvPr/>
        </p:nvSpPr>
        <p:spPr>
          <a:xfrm>
            <a:off x="3924360" y="1197000"/>
            <a:ext cx="576360" cy="3311640"/>
          </a:xfrm>
          <a:prstGeom prst="rect">
            <a:avLst/>
          </a:prstGeom>
          <a:solidFill>
            <a:srgbClr val="7a7a7a"/>
          </a:solidFill>
          <a:ln w="28440">
            <a:solidFill>
              <a:srgbClr val="58585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1AB0A-0D92-4986-AF96-AC9208B933C9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正方形/長方形 5"/>
          <p:cNvSpPr/>
          <p:nvPr/>
        </p:nvSpPr>
        <p:spPr>
          <a:xfrm>
            <a:off x="1042920" y="1197000"/>
            <a:ext cx="6624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①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勉強したか確認する。（やったものを見せてもら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②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勉強するときに横について、一緒になって勉強を見てあげ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③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勉強する時間を決めて守らせ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④</a:t>
            </a: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勉強するように口うるさく言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スライド番号プレースホルダ 3"/>
          <p:cNvSpPr/>
          <p:nvPr/>
        </p:nvSpPr>
        <p:spPr>
          <a:xfrm>
            <a:off x="8172360" y="639432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80B9-DFE2-4DAF-894C-58BCF8972BA0}" type="slidenum">
              <a:rPr b="1" lang="ja-JP" sz="2400" spc="-1" strike="noStrike">
                <a:solidFill>
                  <a:srgbClr val="d1282e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テキスト ボックス 4"/>
          <p:cNvSpPr/>
          <p:nvPr/>
        </p:nvSpPr>
        <p:spPr>
          <a:xfrm>
            <a:off x="611280" y="40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講師教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正方形/長方形 5"/>
          <p:cNvSpPr/>
          <p:nvPr/>
        </p:nvSpPr>
        <p:spPr>
          <a:xfrm>
            <a:off x="1042920" y="119700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基本は生徒指導と同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・モチベーションアッ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05:58:20Z</dcterms:created>
  <dc:creator>arisawa</dc:creator>
  <dc:description/>
  <dc:language>en-US</dc:language>
  <cp:lastModifiedBy>瀬間郁暁</cp:lastModifiedBy>
  <cp:lastPrinted>2017-03-12T10:55:18Z</cp:lastPrinted>
  <dcterms:modified xsi:type="dcterms:W3CDTF">2017-11-07T23:52:08Z</dcterms:modified>
  <cp:revision>686</cp:revision>
  <dc:subject/>
  <dc:title>第１回　Assist勉強会</dc:title>
</cp:coreProperties>
</file>