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796088" cy="9925050"/>
  <p:custShowLst>
    <p:custShow name="定期テスト対策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260AC-C195-4DB5-B060-987FB7069DC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B007-68A4-495C-9F5E-F5F0ACBFA69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E0B6-1208-4E39-BEE4-2583A8428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0C3-845B-4099-943E-3F016ABC1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29FF-E10D-465F-96AB-3B98F0189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34F9-8F8E-484C-A442-AC26C4F6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166B-CC2A-4F89-B14E-1A63A2A2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D764-0B5C-4486-A7F9-D2F17DB6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E52E-6F89-410F-9A54-9E6EBCC7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7FD0-BDEA-47AA-B771-C4CF9E8E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1ACE-5739-4851-B9FC-A48F2BF1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0770C-F63A-4CBF-AC8E-BBD9C7F04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06D83-646A-4A01-8237-97A53411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0131-D314-4F0C-9282-9CB09FD8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FE297-785B-481F-9824-00AD148B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D89B-4142-49D4-8A06-417B481B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6A65-A684-4BB4-B7F3-9E1A724E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6425-B4B0-453C-B8B2-5506E305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15188-08DB-4635-9647-DA880C10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31EE5-4891-483E-91DE-4674FB3E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0C49B-D376-49BB-9B47-1CB35654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A59C68-BD9A-4AE7-B110-577D6151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76936-1845-403B-92F9-F1D65020D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A64D9-F279-4BBC-9ABA-4D039BFD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9016-70C8-48FF-AD16-3C58AD776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8C427-58C3-456F-A5E8-9A0DF5EF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89E1D-10E8-4647-BF95-674A7E2F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C78FC-C71A-4308-AE5C-559C32B2F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96BF5-2687-4464-A642-79A6A329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3937C-B7FE-40F2-8DC5-3B14F178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C2598-B5E8-4039-884B-700178B1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6A1B5-044B-413F-BF88-76C64006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2B41-8DBA-4C4B-A368-B2E7798C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EB09-84E0-4C9A-9B82-F87193A1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B2FB-4CAD-4261-BF27-948F51FC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F9D-FC2C-4136-914A-7E6AA4ED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C2EC-E6E1-45F9-B1CB-580814E0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14D0-6E30-4AC2-8785-D84BD27D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7388-F090-4338-AE58-F86556C3971F}" type="slidenum">
              <a:rPr b="1" lang="ja-JP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EA80-EDB5-438C-94EE-2596D0786923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5A929-41B8-4909-8A20-7C7C02BC2891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76000" y="3500280"/>
            <a:ext cx="6753240" cy="130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4</a:t>
            </a: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回　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SIST</a:t>
            </a: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勉強会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42920" y="4800240"/>
            <a:ext cx="7058160" cy="7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d1282e"/>
                </a:solidFill>
                <a:latin typeface="Arial Black"/>
              </a:rPr>
              <a:t>　「②秋以降の中３の指導」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" descr="C:\Users\arisawa\Desktop\Resized\アシスト／欧文ロゴ.jpg"/>
          <p:cNvPicPr/>
          <p:nvPr/>
        </p:nvPicPr>
        <p:blipFill>
          <a:blip r:embed="rId1"/>
          <a:stretch/>
        </p:blipFill>
        <p:spPr>
          <a:xfrm>
            <a:off x="755640" y="674640"/>
            <a:ext cx="7620120" cy="2048040"/>
          </a:xfrm>
          <a:prstGeom prst="rect">
            <a:avLst/>
          </a:prstGeom>
          <a:ln w="0">
            <a:noFill/>
          </a:ln>
        </p:spPr>
      </p:pic>
      <p:sp>
        <p:nvSpPr>
          <p:cNvPr id="139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E15C-56AE-4A25-870B-D762FDEB05B8}" type="slidenum">
              <a:rPr b="1" lang="ja-JP" sz="2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タイトル 1"/>
          <p:cNvSpPr/>
          <p:nvPr/>
        </p:nvSpPr>
        <p:spPr>
          <a:xfrm>
            <a:off x="141120" y="404640"/>
            <a:ext cx="56548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中３　英語</a:t>
            </a:r>
            <a:r>
              <a:rPr b="1" lang="en-US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1" lang="en-US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ss55)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A66B2-03A1-479F-AA6D-4EC11FFDE5C9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タイトル 1"/>
          <p:cNvSpPr/>
          <p:nvPr/>
        </p:nvSpPr>
        <p:spPr>
          <a:xfrm>
            <a:off x="141120" y="1197000"/>
            <a:ext cx="88236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末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Pass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終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9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合格</a:t>
            </a:r>
            <a:r>
              <a:rPr b="0" lang="en-US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BEST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本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，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ｽﾗｯｼｭﾘｰﾃﾞｨﾝｸ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0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中間テスト対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1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合格</a:t>
            </a:r>
            <a:r>
              <a:rPr b="0" lang="en-US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BEST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本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，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ｽﾗｯｼｭﾘｰﾃﾞｨﾝｸ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1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期末テスト対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2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合格</a:t>
            </a:r>
            <a:r>
              <a:rPr b="0" lang="en-US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BEST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本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，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ｽﾗｯｼｭﾘｰﾃﾞｨﾝｸﾞ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冬期講習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基礎力定着テスト　特講</a:t>
            </a:r>
            <a:r>
              <a:rPr b="0" lang="en-US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ja-JP" sz="2800" spc="-1" strike="noStrike">
                <a:solidFill>
                  <a:srgbClr val="00b050"/>
                </a:solidFill>
                <a:latin typeface="メイリオ"/>
                <a:ea typeface="メイリオ"/>
              </a:rPr>
              <a:t>千葉県公立用教材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，</a:t>
            </a:r>
            <a:r>
              <a:rPr b="0" lang="ja-JP" sz="2800" spc="-1" strike="noStrike">
                <a:solidFill>
                  <a:srgbClr val="00b050"/>
                </a:solidFill>
                <a:latin typeface="メイリオ"/>
                <a:ea typeface="メイリオ"/>
              </a:rPr>
              <a:t>模試過去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末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高校予習講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テキスト ボックス 7"/>
          <p:cNvSpPr/>
          <p:nvPr/>
        </p:nvSpPr>
        <p:spPr>
          <a:xfrm>
            <a:off x="6659640" y="2708280"/>
            <a:ext cx="24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メイリオ"/>
                <a:ea typeface="メイリオ"/>
              </a:rPr>
              <a:t>HW:</a:t>
            </a:r>
            <a:r>
              <a:rPr b="0" lang="ja-JP" sz="1800" spc="-1" strike="noStrike">
                <a:solidFill>
                  <a:srgbClr val="00b050"/>
                </a:solidFill>
                <a:latin typeface="メイリオ"/>
                <a:ea typeface="メイリオ"/>
              </a:rPr>
              <a:t>私立過去問開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テキスト ボックス 8"/>
          <p:cNvSpPr/>
          <p:nvPr/>
        </p:nvSpPr>
        <p:spPr>
          <a:xfrm>
            <a:off x="6659640" y="3933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メイリオ"/>
                <a:ea typeface="メイリオ"/>
              </a:rPr>
              <a:t>HW:</a:t>
            </a:r>
            <a:r>
              <a:rPr b="0" lang="ja-JP" sz="1800" spc="-1" strike="noStrike">
                <a:solidFill>
                  <a:srgbClr val="00b050"/>
                </a:solidFill>
                <a:latin typeface="メイリオ"/>
                <a:ea typeface="メイリオ"/>
              </a:rPr>
              <a:t>公立過去問開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テキスト ボックス 7"/>
          <p:cNvSpPr/>
          <p:nvPr/>
        </p:nvSpPr>
        <p:spPr>
          <a:xfrm>
            <a:off x="6624720" y="47772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青：コンテンツ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b050"/>
                </a:solidFill>
                <a:latin typeface="Arial"/>
              </a:rPr>
              <a:t>緑：コンテンツ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中３　数学</a:t>
            </a:r>
            <a:r>
              <a:rPr b="1" lang="en-US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1" lang="en-US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ss5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252E7-10C6-4CC6-B644-11DBA036885A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タイトル 1"/>
          <p:cNvSpPr/>
          <p:nvPr/>
        </p:nvSpPr>
        <p:spPr>
          <a:xfrm>
            <a:off x="141120" y="1197000"/>
            <a:ext cx="88236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9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0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中間テスト対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1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Pass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終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1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期末テスト対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2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基礎力定着テスト</a:t>
            </a:r>
            <a:r>
              <a:rPr b="0" lang="en-US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冬期講習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基礎力定着テスト</a:t>
            </a:r>
            <a:r>
              <a:rPr b="0" lang="en-US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基礎力定着テスト</a:t>
            </a:r>
            <a:r>
              <a:rPr b="0" lang="en-US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年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，</a:t>
            </a:r>
            <a:r>
              <a:rPr b="0" lang="ja-JP" sz="2800" spc="-1" strike="noStrike">
                <a:solidFill>
                  <a:srgbClr val="00b050"/>
                </a:solidFill>
                <a:latin typeface="メイリオ"/>
                <a:ea typeface="メイリオ"/>
              </a:rPr>
              <a:t>模試過去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末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高校予習講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テキスト ボックス 7"/>
          <p:cNvSpPr/>
          <p:nvPr/>
        </p:nvSpPr>
        <p:spPr>
          <a:xfrm>
            <a:off x="5940360" y="20318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メイリオ"/>
                <a:ea typeface="メイリオ"/>
              </a:rPr>
              <a:t>HW:</a:t>
            </a:r>
            <a:r>
              <a:rPr b="0" lang="ja-JP" sz="2400" spc="-1" strike="noStrike">
                <a:solidFill>
                  <a:srgbClr val="00b050"/>
                </a:solidFill>
                <a:latin typeface="メイリオ"/>
                <a:ea typeface="メイリオ"/>
              </a:rPr>
              <a:t>私立過去問開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テキスト ボックス 8"/>
          <p:cNvSpPr/>
          <p:nvPr/>
        </p:nvSpPr>
        <p:spPr>
          <a:xfrm>
            <a:off x="5940360" y="38307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メイリオ"/>
                <a:ea typeface="メイリオ"/>
              </a:rPr>
              <a:t>HW:</a:t>
            </a:r>
            <a:r>
              <a:rPr b="0" lang="ja-JP" sz="2400" spc="-1" strike="noStrike">
                <a:solidFill>
                  <a:srgbClr val="00b050"/>
                </a:solidFill>
                <a:latin typeface="メイリオ"/>
                <a:ea typeface="メイリオ"/>
              </a:rPr>
              <a:t>公立過去問開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中３　国語</a:t>
            </a:r>
            <a:r>
              <a:rPr b="1" lang="en-US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1" lang="en-US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ss6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65A7-30CC-4D5B-B920-0998ED6D8AB7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タイトル 1"/>
          <p:cNvSpPr/>
          <p:nvPr/>
        </p:nvSpPr>
        <p:spPr>
          <a:xfrm>
            <a:off x="141120" y="1197000"/>
            <a:ext cx="88236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9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0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中間テスト対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1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Pass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終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1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期末テスト対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2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合格</a:t>
            </a:r>
            <a:r>
              <a:rPr b="0" lang="en-US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BEST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本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冬期講習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合格</a:t>
            </a:r>
            <a:r>
              <a:rPr b="0" lang="en-US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BEST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合格</a:t>
            </a:r>
            <a:r>
              <a:rPr b="0" lang="en-US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BEST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ff0000"/>
                </a:solidFill>
                <a:latin typeface="メイリオ"/>
                <a:ea typeface="メイリオ"/>
              </a:rPr>
              <a:t>　</a:t>
            </a:r>
            <a:r>
              <a:rPr b="0" lang="ja-JP" sz="2800" spc="-1" strike="noStrike">
                <a:solidFill>
                  <a:srgbClr val="00b050"/>
                </a:solidFill>
                <a:latin typeface="メイリオ"/>
                <a:ea typeface="メイリオ"/>
              </a:rPr>
              <a:t>千葉県公立用教材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，</a:t>
            </a:r>
            <a:r>
              <a:rPr b="0" lang="ja-JP" sz="2800" spc="-1" strike="noStrike">
                <a:solidFill>
                  <a:srgbClr val="00b050"/>
                </a:solidFill>
                <a:latin typeface="メイリオ"/>
                <a:ea typeface="メイリオ"/>
              </a:rPr>
              <a:t>模試過去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テキスト ボックス 7"/>
          <p:cNvSpPr/>
          <p:nvPr/>
        </p:nvSpPr>
        <p:spPr>
          <a:xfrm>
            <a:off x="5940360" y="20318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メイリオ"/>
                <a:ea typeface="メイリオ"/>
              </a:rPr>
              <a:t>HW:</a:t>
            </a:r>
            <a:r>
              <a:rPr b="0" lang="ja-JP" sz="2400" spc="-1" strike="noStrike">
                <a:solidFill>
                  <a:srgbClr val="00b050"/>
                </a:solidFill>
                <a:latin typeface="メイリオ"/>
                <a:ea typeface="メイリオ"/>
              </a:rPr>
              <a:t>私立過去問開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テキスト ボックス 8"/>
          <p:cNvSpPr/>
          <p:nvPr/>
        </p:nvSpPr>
        <p:spPr>
          <a:xfrm>
            <a:off x="5940360" y="383076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メイリオ"/>
                <a:ea typeface="メイリオ"/>
              </a:rPr>
              <a:t>HW:</a:t>
            </a:r>
            <a:r>
              <a:rPr b="0" lang="ja-JP" sz="2400" spc="-1" strike="noStrike">
                <a:solidFill>
                  <a:srgbClr val="00b050"/>
                </a:solidFill>
                <a:latin typeface="メイリオ"/>
                <a:ea typeface="メイリオ"/>
              </a:rPr>
              <a:t>公立過去問開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中３　社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AD5A-8022-4C56-B4C8-3AC752865A53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タイトル 1"/>
          <p:cNvSpPr/>
          <p:nvPr/>
        </p:nvSpPr>
        <p:spPr>
          <a:xfrm>
            <a:off x="141120" y="1197000"/>
            <a:ext cx="88236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8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末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WinPass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終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9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WinPass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入試問題にチャレン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0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中間テスト対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1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WinPass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入試問題にチャレン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1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期末テスト対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2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WinPass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入試実践編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冬期講習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冬期テキス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WinPass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入試実践編，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冬期テキスト残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　　　</a:t>
            </a:r>
            <a:r>
              <a:rPr b="0" lang="ja-JP" sz="2800" spc="-1" strike="noStrike">
                <a:solidFill>
                  <a:srgbClr val="00b050"/>
                </a:solidFill>
                <a:latin typeface="メイリオ"/>
                <a:ea typeface="メイリオ"/>
              </a:rPr>
              <a:t>千葉県公立用教材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，</a:t>
            </a:r>
            <a:r>
              <a:rPr b="0" lang="ja-JP" sz="2800" spc="-1" strike="noStrike">
                <a:solidFill>
                  <a:srgbClr val="00b050"/>
                </a:solidFill>
                <a:latin typeface="メイリオ"/>
                <a:ea typeface="メイリオ"/>
              </a:rPr>
              <a:t>模試過去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テキスト ボックス 9"/>
          <p:cNvSpPr/>
          <p:nvPr/>
        </p:nvSpPr>
        <p:spPr>
          <a:xfrm>
            <a:off x="5651640" y="260676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メイリオ"/>
                <a:ea typeface="メイリオ"/>
              </a:rPr>
              <a:t>HW:</a:t>
            </a:r>
            <a:r>
              <a:rPr b="0" lang="ja-JP" sz="2400" spc="-1" strike="noStrike">
                <a:solidFill>
                  <a:srgbClr val="00b050"/>
                </a:solidFill>
                <a:latin typeface="メイリオ"/>
                <a:ea typeface="メイリオ"/>
              </a:rPr>
              <a:t>全国公立問題演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テキスト ボックス 9"/>
          <p:cNvSpPr/>
          <p:nvPr/>
        </p:nvSpPr>
        <p:spPr>
          <a:xfrm>
            <a:off x="5724360" y="50547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メイリオ"/>
                <a:ea typeface="メイリオ"/>
              </a:rPr>
              <a:t>HW:</a:t>
            </a:r>
            <a:r>
              <a:rPr b="0" lang="ja-JP" sz="2400" spc="-1" strike="noStrike">
                <a:solidFill>
                  <a:srgbClr val="00b050"/>
                </a:solidFill>
                <a:latin typeface="メイリオ"/>
                <a:ea typeface="メイリオ"/>
              </a:rPr>
              <a:t>公立過去問開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タイトル 1"/>
          <p:cNvSpPr/>
          <p:nvPr/>
        </p:nvSpPr>
        <p:spPr>
          <a:xfrm>
            <a:off x="141120" y="404640"/>
            <a:ext cx="8823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中３　理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122C-E9B5-4940-8321-76DBA27EDDBE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タイトル 1"/>
          <p:cNvSpPr/>
          <p:nvPr/>
        </p:nvSpPr>
        <p:spPr>
          <a:xfrm>
            <a:off x="141120" y="1197000"/>
            <a:ext cx="88236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9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Win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0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中間テスト対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0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WinPass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範囲終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0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WinPass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入試実践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1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期末テスト対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12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WinPass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入試実践編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冬期講習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冬期テキス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週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</a:t>
            </a:r>
            <a:r>
              <a:rPr b="0" lang="en-US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WinPass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入試実践編，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冬期テキスト残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　　　</a:t>
            </a:r>
            <a:r>
              <a:rPr b="0" lang="ja-JP" sz="2800" spc="-1" strike="noStrike">
                <a:solidFill>
                  <a:srgbClr val="00b050"/>
                </a:solidFill>
                <a:latin typeface="メイリオ"/>
                <a:ea typeface="メイリオ"/>
              </a:rPr>
              <a:t>千葉県公立用教材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，</a:t>
            </a:r>
            <a:r>
              <a:rPr b="0" lang="ja-JP" sz="2800" spc="-1" strike="noStrike">
                <a:solidFill>
                  <a:srgbClr val="00b050"/>
                </a:solidFill>
                <a:latin typeface="メイリオ"/>
                <a:ea typeface="メイリオ"/>
              </a:rPr>
              <a:t>模試過去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テキスト ボックス 7"/>
          <p:cNvSpPr/>
          <p:nvPr/>
        </p:nvSpPr>
        <p:spPr>
          <a:xfrm>
            <a:off x="5724360" y="20318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メイリオ"/>
                <a:ea typeface="メイリオ"/>
              </a:rPr>
              <a:t>HW:</a:t>
            </a:r>
            <a:r>
              <a:rPr b="0" lang="ja-JP" sz="2400" spc="-1" strike="noStrike">
                <a:solidFill>
                  <a:srgbClr val="00b050"/>
                </a:solidFill>
                <a:latin typeface="メイリオ"/>
                <a:ea typeface="メイリオ"/>
              </a:rPr>
              <a:t>全国公立問題演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テキスト ボックス 7"/>
          <p:cNvSpPr/>
          <p:nvPr/>
        </p:nvSpPr>
        <p:spPr>
          <a:xfrm>
            <a:off x="5724360" y="512928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50"/>
                </a:solidFill>
                <a:latin typeface="メイリオ"/>
                <a:ea typeface="メイリオ"/>
              </a:rPr>
              <a:t>HW:</a:t>
            </a:r>
            <a:r>
              <a:rPr b="0" lang="ja-JP" sz="2400" spc="-1" strike="noStrike">
                <a:solidFill>
                  <a:srgbClr val="00b050"/>
                </a:solidFill>
                <a:latin typeface="メイリオ"/>
                <a:ea typeface="メイリオ"/>
              </a:rPr>
              <a:t>公立過去問開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タイトル 1"/>
          <p:cNvSpPr/>
          <p:nvPr/>
        </p:nvSpPr>
        <p:spPr>
          <a:xfrm>
            <a:off x="141120" y="404640"/>
            <a:ext cx="435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◆</a:t>
            </a:r>
            <a:r>
              <a:rPr b="1" lang="ja-JP" sz="4000" spc="-1" strike="noStrike">
                <a:solidFill>
                  <a:srgbClr val="000000"/>
                </a:solidFill>
                <a:latin typeface="メイリオ"/>
                <a:ea typeface="メイリオ"/>
              </a:rPr>
              <a:t>中３　補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線コネクタ 11"/>
          <p:cNvSpPr/>
          <p:nvPr/>
        </p:nvSpPr>
        <p:spPr>
          <a:xfrm>
            <a:off x="395280" y="1123920"/>
            <a:ext cx="7993080" cy="0"/>
          </a:xfrm>
          <a:prstGeom prst="line">
            <a:avLst/>
          </a:prstGeom>
          <a:ln w="38160">
            <a:solidFill>
              <a:srgbClr val="66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スライド番号プレースホルダ 4"/>
          <p:cNvSpPr/>
          <p:nvPr/>
        </p:nvSpPr>
        <p:spPr>
          <a:xfrm>
            <a:off x="8244000" y="6237360"/>
            <a:ext cx="131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B64D-ADB4-4C19-80AB-CB4D8D0049CC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タイトル 1"/>
          <p:cNvSpPr/>
          <p:nvPr/>
        </p:nvSpPr>
        <p:spPr>
          <a:xfrm>
            <a:off x="141120" y="1197000"/>
            <a:ext cx="8823600" cy="54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英語　最上位　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特訓テキスト精選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上　位　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特訓テキスト標準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数学　最上位　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数学発展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，目で解く幾何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京出版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上　位　</a:t>
            </a:r>
            <a:r>
              <a:rPr b="0" lang="ja-JP" sz="2800" spc="-1" strike="noStrike">
                <a:solidFill>
                  <a:srgbClr val="0000ff"/>
                </a:solidFill>
                <a:latin typeface="メイリオ"/>
                <a:ea typeface="メイリオ"/>
              </a:rPr>
              <a:t>特訓テキスト標準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超苦手　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Perfect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大問①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研秀社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国語　上　位　出口の国語レベル別問題集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東進ブックス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理社　</a:t>
            </a:r>
            <a:r>
              <a:rPr b="0" lang="en-US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HW</a:t>
            </a: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：全国高校入試問題正解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旺文社</a:t>
            </a:r>
            <a:r>
              <a:rPr b="0" lang="en-US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　　　＊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生徒のレベルによって量・単元を調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★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過去問ノート見本はこちらか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メイリオ"/>
                <a:ea typeface="メイリオ"/>
              </a:rPr>
              <a:t>http://assist-web.sub.jp/dl/1809be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テキスト ボックス 7"/>
          <p:cNvSpPr/>
          <p:nvPr/>
        </p:nvSpPr>
        <p:spPr>
          <a:xfrm>
            <a:off x="6588000" y="75564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青：コンテンツ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5:58:20Z</dcterms:created>
  <dc:creator>arisawa</dc:creator>
  <dc:description/>
  <dc:language>en-US</dc:language>
  <cp:lastModifiedBy>Matsubara</cp:lastModifiedBy>
  <cp:lastPrinted>2013-06-06T02:58:55Z</cp:lastPrinted>
  <dcterms:modified xsi:type="dcterms:W3CDTF">2018-09-18T07:50:21Z</dcterms:modified>
  <cp:revision>1282</cp:revision>
  <dc:subject/>
  <dc:title>第１回　Assist勉強会</dc:title>
</cp:coreProperties>
</file>